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1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16.png" ContentType="image/png"/>
  <Override PartName="/ppt/media/image13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64B2-2D24-4988-895A-283E435AA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A301-6F34-425F-A185-2F993F9993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0F3D-0DB4-4901-9D03-7C055BAFE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5E16-FFC7-4FE1-96B7-FAB0CB199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2A41-8F5C-438D-BFF1-C37F14130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4BF5-0AC2-47B2-95AB-607FD57A7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8596-1E06-479F-BFB7-F4C3D99C1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5AD5-EB1D-4347-92B3-58BA251F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F544-8475-43FC-AE58-A3B4B8F47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FAB-1B91-462B-8438-A95B600B7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45D4-C27B-4EE2-A5F5-FF3EF3E88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0EB5-5ECC-4E41-9587-366EF72FA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1FA7-30F1-4FEA-A98F-DDDD5800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ABC5-F00B-4836-8E22-C34B9FBF8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2806-B05B-4342-96CE-8D78920BE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379F-E228-400C-A41E-89FC53F72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E62-6661-4764-B7D6-BC178FFAD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FB4-FE45-4711-B6E6-C65132D2F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062-EB08-4CA3-A865-A70AFDB34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8C9-A0F3-4DD0-9106-57BD0C19B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0C45-443C-4F77-A99A-05F93CB7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7773-045F-474E-8C3A-A606A8ECD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2FA1-F60A-4B50-8231-38C1593E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2BD0-873E-482B-B9E0-5771BFE63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3E69-E911-4574-A876-6917DAD0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D0E1-A8C5-4E2D-AEEE-AA9972B08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D7E-FFC7-42BA-A264-D939A8AC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A18-1F98-43B7-8B67-5FDC6524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4AE-71D8-4FC9-8F73-A58BCF1F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E32-0C26-40B1-9199-4FCF2B2E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979-5E9C-45B5-89B2-B825B9F5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260-58C3-4ABC-8EE4-0DEECA5B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17E-9EB9-4E2B-8FB7-0BDDFA2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B1D-BBB1-47F3-85A8-1B2ED78C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717-D057-4BD1-96EB-BAFBD37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48F-58B0-478D-8083-4DF8384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6F1-7564-44AF-BE79-0F0C84D0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252-8BDD-4477-887F-F36AE36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B1EA-BC3B-40A5-A1CD-7D9093988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hyperlink" Target="http://images.google.co.uk/imgres?imgurl=http://theaarongershfield.files.wordpress.com/2008/03/orange-slices.jpg&amp;imgrefurl=http://theaarongershfield.wordpress.com/2008/03/13/define-bureaucracy/&amp;h=591&amp;w=495&amp;sz=46&amp;hl=en&amp;start=4&amp;sig2=fnTHVOtRIJP9Vz3v-RMfcQ&amp;um=1&amp;usg=__gAcvJcD60OcH79g2w02-iP-gsRg=&amp;tbnid=zGQ43IOrSL8-rM:&amp;tbnh=135&amp;tbnw=113&amp;ei=pyn_SLaJL4SGwAGI0Pj5AQ&amp;prev=/images%3Fq%3Dan%2Borange%26um%3D1%26hl%3Den%26rlz%3D1T4GGIH_en-GBGB261GB261" TargetMode="External"/><Relationship Id="rId20" Type="http://schemas.openxmlformats.org/officeDocument/2006/relationships/image" Target="../media/image4.jpe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.wmf"/><Relationship Id="rId23" Type="http://schemas.openxmlformats.org/officeDocument/2006/relationships/hyperlink" Target="http://images.google.co.uk/imgres?imgurl=http://www.tjphotography.co.uk/gallery/Food%2520And%2520Drink/slides/Red%2520Pepper.jpg&amp;imgrefurl=http://www.tjphotography.co.uk/gallery/Food%2520And%2520Drink/slides/Red%2520Pepper.html&amp;h=366&amp;w=550&amp;sz=54&amp;hl=en&amp;start=2&amp;sig2=1OqXSv_AbONZ6Dr_DExjoA&amp;um=1&amp;usg=__zDWEp2yk5SdhfSF4xogbIzKreVI=&amp;tbnid=dKuDvU5wEsyqqM:&amp;tbnh=89&amp;tbnw=133&amp;ei=Eir_SKKKAZDOwQHO1ZX8AQ&amp;prev=/images%3Fq%3Da%2Bred%2Bpepper%26um%3D1%26hl%3Den%26rlz%3D1T4GGIH_en-GBGB261GB261" TargetMode="External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hyperlink" Target="http://images.google.co.uk/imgres?imgurl=http://theaarongershfield.files.wordpress.com/2008/03/orange-slices.jpg&amp;imgrefurl=http://theaarongershfield.wordpress.com/2008/03/13/define-bureaucracy/&amp;h=591&amp;w=495&amp;sz=46&amp;hl=en&amp;start=4&amp;sig2=fnTHVOtRIJP9Vz3v-RMfcQ&amp;um=1&amp;usg=__gAcvJcD60OcH79g2w02-iP-gsRg=&amp;tbnid=zGQ43IOrSL8-rM:&amp;tbnh=135&amp;tbnw=113&amp;ei=pyn_SLaJL4SGwAGI0Pj5AQ&amp;prev=/images%3Fq%3Dan%2Borange%26um%3D1%26hl%3Den%26rlz%3D1T4GGIH_en-GBGB261GB261" TargetMode="External"/><Relationship Id="rId20" Type="http://schemas.openxmlformats.org/officeDocument/2006/relationships/image" Target="../media/image4.jpe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.wmf"/><Relationship Id="rId23" Type="http://schemas.openxmlformats.org/officeDocument/2006/relationships/image" Target="../media/image3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jphotography.co.uk/gallery/Food%2520And%2520Drink/slides/Red%2520Pepper.jpg&amp;imgrefurl=http://www.tjphotography.co.uk/gallery/Food%2520And%2520Drink/slides/Red%2520Pepper.html&amp;h=366&amp;w=550&amp;sz=54&amp;hl=en&amp;start=2&amp;sig2=1OqXSv_AbONZ6Dr_DExjoA&amp;um=1&amp;usg=__zDWEp2yk5SdhfSF4xogbIzKreVI=&amp;tbnid=dKuDvU5wEsyqqM:&amp;tbnh=89&amp;tbnw=133&amp;ei=Eir_SKKKAZDOwQHO1ZX8AQ&amp;prev=/images%3Fq%3Da%2Bred%2Bpepper%26um%3D1%26hl%3Den%26rlz%3D1T4GGIH_en-GBGB261GB26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theaarongershfield.files.wordpress.com/2008/03/orange-slices.jpg&amp;imgrefurl=http://theaarongershfield.wordpress.com/2008/03/13/define-bureaucracy/&amp;h=591&amp;w=495&amp;sz=46&amp;hl=en&amp;start=4&amp;sig2=fnTHVOtRIJP9Vz3v-RMfcQ&amp;um=1&amp;usg=__gAcvJcD60OcH79g2w02-iP-gsRg=&amp;tbnid=zGQ43IOrSL8-rM:&amp;tbnh=135&amp;tbnw=113&amp;ei=pyn_SLaJL4SGwAGI0Pj5AQ&amp;prev=/images%3Fq%3Dan%2Borange%26um%3D1%26hl%3Den%26rlz%3D1T4GGIH_en-GBGB261GB26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85840" y="2000160"/>
            <a:ext cx="3857400" cy="41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uele hor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 gusta 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asquer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bien para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delic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refiero comer caram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abe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para ayudar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929120" y="2000160"/>
            <a:ext cx="3857760" cy="4178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 like to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g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de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to help you concen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 tastes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 prefer eating sw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good for the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t smells hor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85880" y="214200"/>
            <a:ext cx="778680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comida y las opi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parejas, conecta el ingl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és y el españ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2590920" y="1523880"/>
          <a:ext cx="365904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523880"/>
                    <a:ext cx="36590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1619280" y="4508640"/>
            <a:ext cx="531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os guisan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2514600" y="1752480"/>
          <a:ext cx="410688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752480"/>
                    <a:ext cx="410688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3"/>
          <p:cNvSpPr/>
          <p:nvPr/>
        </p:nvSpPr>
        <p:spPr>
          <a:xfrm>
            <a:off x="438120" y="4797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os champiñon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2362320" y="1676520"/>
          <a:ext cx="41418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41418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3"/>
          <p:cNvSpPr/>
          <p:nvPr/>
        </p:nvSpPr>
        <p:spPr>
          <a:xfrm>
            <a:off x="2096640" y="5181480"/>
            <a:ext cx="62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os plátan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1981080" y="2057400"/>
          <a:ext cx="5562720" cy="21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556272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"/>
          <p:cNvSpPr/>
          <p:nvPr/>
        </p:nvSpPr>
        <p:spPr>
          <a:xfrm>
            <a:off x="1670400" y="5105520"/>
            <a:ext cx="72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s zanaho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3200400" y="457200"/>
          <a:ext cx="2855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"/>
                    <a:ext cx="2855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3"/>
          <p:cNvSpPr/>
          <p:nvPr/>
        </p:nvSpPr>
        <p:spPr>
          <a:xfrm>
            <a:off x="1332000" y="4076640"/>
            <a:ext cx="337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s uv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2819520" y="1581120"/>
          <a:ext cx="3840120" cy="30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81120"/>
                    <a:ext cx="384012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3"/>
          <p:cNvSpPr/>
          <p:nvPr/>
        </p:nvSpPr>
        <p:spPr>
          <a:xfrm>
            <a:off x="2573280" y="4952880"/>
            <a:ext cx="50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s fres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960800" y="22860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46000" y="22860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789280" y="2286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0320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46480" y="343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418000" y="343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Comic Sans MS"/>
              </a:rPr>
              <a:t>dos 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195640" y="234936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160880" y="127008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140360" y="242100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217600" y="1270080"/>
            <a:ext cx="457200" cy="57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195640" y="4292640"/>
            <a:ext cx="457200" cy="571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195640" y="342900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211640" y="4365720"/>
            <a:ext cx="45720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140360" y="350028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16"/>
          <p:cNvGraphicFramePr/>
          <p:nvPr/>
        </p:nvGraphicFramePr>
        <p:xfrm>
          <a:off x="4932360" y="1052640"/>
          <a:ext cx="124776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052640"/>
                    <a:ext cx="12477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7"/>
          <p:cNvGraphicFramePr/>
          <p:nvPr/>
        </p:nvGraphicFramePr>
        <p:xfrm>
          <a:off x="900000" y="907920"/>
          <a:ext cx="981360" cy="12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907920"/>
                    <a:ext cx="98136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8"/>
          <p:cNvSpPr/>
          <p:nvPr/>
        </p:nvSpPr>
        <p:spPr>
          <a:xfrm>
            <a:off x="4211640" y="602136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195640" y="5157720"/>
            <a:ext cx="457200" cy="571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2195640" y="6021360"/>
            <a:ext cx="457200" cy="571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4211640" y="5157720"/>
            <a:ext cx="457200" cy="5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2"/>
          <p:cNvGraphicFramePr/>
          <p:nvPr/>
        </p:nvGraphicFramePr>
        <p:xfrm>
          <a:off x="250920" y="2276640"/>
          <a:ext cx="1869840" cy="7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276640"/>
                    <a:ext cx="18698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23"/>
          <p:cNvGraphicFramePr/>
          <p:nvPr/>
        </p:nvGraphicFramePr>
        <p:xfrm>
          <a:off x="4788000" y="2205000"/>
          <a:ext cx="120168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2205000"/>
                    <a:ext cx="1201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4"/>
          <p:cNvGraphicFramePr/>
          <p:nvPr/>
        </p:nvGraphicFramePr>
        <p:xfrm>
          <a:off x="4932360" y="3213000"/>
          <a:ext cx="1481040" cy="94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2360" y="3213000"/>
                    <a:ext cx="148104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5"/>
          <p:cNvGraphicFramePr/>
          <p:nvPr/>
        </p:nvGraphicFramePr>
        <p:xfrm>
          <a:off x="5003640" y="4076640"/>
          <a:ext cx="104472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4076640"/>
                    <a:ext cx="10447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6"/>
          <p:cNvGraphicFramePr/>
          <p:nvPr/>
        </p:nvGraphicFramePr>
        <p:xfrm>
          <a:off x="971640" y="3141720"/>
          <a:ext cx="952560" cy="93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3141720"/>
                    <a:ext cx="9525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7"/>
          <p:cNvGraphicFramePr/>
          <p:nvPr/>
        </p:nvGraphicFramePr>
        <p:xfrm>
          <a:off x="826920" y="4005360"/>
          <a:ext cx="927360" cy="95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2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6920" y="4005360"/>
                    <a:ext cx="9273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8"/>
          <p:cNvGraphicFramePr/>
          <p:nvPr/>
        </p:nvGraphicFramePr>
        <p:xfrm>
          <a:off x="539640" y="4941720"/>
          <a:ext cx="134640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4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9640" y="4941720"/>
                    <a:ext cx="13464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30" descr="orange-slic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55640" y="5805360"/>
            <a:ext cx="107640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31"/>
          <p:cNvGraphicFramePr/>
          <p:nvPr/>
        </p:nvGraphicFramePr>
        <p:xfrm>
          <a:off x="5003640" y="4941720"/>
          <a:ext cx="101916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7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03640" y="4941720"/>
                    <a:ext cx="1019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33" descr="Red%2520Pepper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59280" y="5805360"/>
            <a:ext cx="14414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468360" y="1890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 u="sng">
                <a:solidFill>
                  <a:srgbClr val="000000"/>
                </a:solidFill>
                <a:uFillTx/>
                <a:latin typeface="Arial"/>
              </a:rPr>
              <a:t>¿de, en, c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Una torta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chocolate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of, as in flav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Un zumo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manz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El pescado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vino blanco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in, as in a sa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La fruta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z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La carne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ensalada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with, accompani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Una paella </a:t>
            </a: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writing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t in tomato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rne en to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with grap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escado con u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ad with ha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ensalada con ja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1557360"/>
            <a:ext cx="84978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basic opinions with foo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learn 12 items of fruit and ve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play brain gy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how to use de, en and c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3333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M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me 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EBYLCCEL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breakfast on bacon and cereals with 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ayuno el ba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y los cereales con el 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UMEDYEBP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e is delicious and is good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 manzana es delici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bien para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ECFP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eally like eating fruit because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tes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 encanta comer fruta porque sabe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MGLCPH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like beer because it sme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r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me gusta la cerveza porque huele hor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ta y verd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6"/>
          <p:cNvGraphicFramePr/>
          <p:nvPr/>
        </p:nvGraphicFramePr>
        <p:xfrm>
          <a:off x="4932360" y="1052640"/>
          <a:ext cx="124776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052640"/>
                    <a:ext cx="12477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900000" y="907920"/>
          <a:ext cx="981360" cy="12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907920"/>
                    <a:ext cx="98136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22"/>
          <p:cNvGraphicFramePr/>
          <p:nvPr/>
        </p:nvGraphicFramePr>
        <p:xfrm>
          <a:off x="2340000" y="1268280"/>
          <a:ext cx="187020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1268280"/>
                    <a:ext cx="18702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23"/>
          <p:cNvGraphicFramePr/>
          <p:nvPr/>
        </p:nvGraphicFramePr>
        <p:xfrm>
          <a:off x="6732720" y="1125360"/>
          <a:ext cx="120168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1125360"/>
                    <a:ext cx="12016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4"/>
          <p:cNvGraphicFramePr/>
          <p:nvPr/>
        </p:nvGraphicFramePr>
        <p:xfrm>
          <a:off x="4643280" y="2421000"/>
          <a:ext cx="1481400" cy="94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2421000"/>
                    <a:ext cx="14814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5"/>
          <p:cNvGraphicFramePr/>
          <p:nvPr/>
        </p:nvGraphicFramePr>
        <p:xfrm>
          <a:off x="6804000" y="2421000"/>
          <a:ext cx="104472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04000" y="2421000"/>
                    <a:ext cx="10447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6"/>
          <p:cNvGraphicFramePr/>
          <p:nvPr/>
        </p:nvGraphicFramePr>
        <p:xfrm>
          <a:off x="971640" y="2349360"/>
          <a:ext cx="952560" cy="939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2349360"/>
                    <a:ext cx="952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7"/>
          <p:cNvGraphicFramePr/>
          <p:nvPr/>
        </p:nvGraphicFramePr>
        <p:xfrm>
          <a:off x="2411280" y="2349360"/>
          <a:ext cx="927360" cy="95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11280" y="2349360"/>
                    <a:ext cx="92736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8"/>
          <p:cNvGraphicFramePr/>
          <p:nvPr/>
        </p:nvGraphicFramePr>
        <p:xfrm>
          <a:off x="2484360" y="3716280"/>
          <a:ext cx="1346400" cy="78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84360" y="3716280"/>
                    <a:ext cx="13464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29" descr="orange-slic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971640" y="3716280"/>
            <a:ext cx="107640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30"/>
          <p:cNvGraphicFramePr/>
          <p:nvPr/>
        </p:nvGraphicFramePr>
        <p:xfrm>
          <a:off x="5148360" y="3500280"/>
          <a:ext cx="101916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Object 3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48360" y="3500280"/>
                    <a:ext cx="1019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31" descr="Red%2520Pepper"/>
          <p:cNvPicPr/>
          <p:nvPr/>
        </p:nvPicPr>
        <p:blipFill>
          <a:blip r:embed="rId23"/>
          <a:stretch/>
        </p:blipFill>
        <p:spPr>
          <a:xfrm>
            <a:off x="6588000" y="3789360"/>
            <a:ext cx="14414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27360"/>
            <a:ext cx="58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ShockwaveFlash1"/>
          <p:cNvGraphicFramePr/>
          <p:nvPr/>
        </p:nvGraphicFramePr>
        <p:xfrm>
          <a:off x="1835280" y="981000"/>
          <a:ext cx="63370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81000"/>
                    <a:ext cx="633708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100440"/>
            <a:ext cx="566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ShockwaveFlash1"/>
          <p:cNvGraphicFramePr/>
          <p:nvPr/>
        </p:nvGraphicFramePr>
        <p:xfrm>
          <a:off x="1042920" y="765000"/>
          <a:ext cx="63374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65000"/>
                    <a:ext cx="633744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8600" y="1219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54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¿De dónde es?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ShockwaveFlash1"/>
          <p:cNvGraphicFramePr/>
          <p:nvPr/>
        </p:nvGraphicFramePr>
        <p:xfrm>
          <a:off x="1692360" y="981000"/>
          <a:ext cx="61196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81000"/>
                    <a:ext cx="611964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2349360"/>
          <a:ext cx="8209080" cy="319104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ta y verd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19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048120" y="838080"/>
          <a:ext cx="334332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838080"/>
                    <a:ext cx="334332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2467440" y="5105520"/>
            <a:ext cx="46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 toma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3200400" y="1447920"/>
          <a:ext cx="29192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447920"/>
                    <a:ext cx="29192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3"/>
          <p:cNvSpPr/>
          <p:nvPr/>
        </p:nvSpPr>
        <p:spPr>
          <a:xfrm>
            <a:off x="2793600" y="5257800"/>
            <a:ext cx="39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 limó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419560" y="5105520"/>
            <a:ext cx="54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 pimien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Red%2520Pep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568520"/>
            <a:ext cx="45370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574000" y="5257800"/>
            <a:ext cx="53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naranj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orange-sli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844640"/>
            <a:ext cx="26478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971800" y="1295280"/>
          <a:ext cx="336060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95280"/>
                    <a:ext cx="336060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manza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362320" y="2057400"/>
          <a:ext cx="4478040" cy="26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447804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3"/>
          <p:cNvSpPr/>
          <p:nvPr/>
        </p:nvSpPr>
        <p:spPr>
          <a:xfrm>
            <a:off x="2612880" y="502920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ceboll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1T16:47:56Z</dcterms:created>
  <dc:creator>Towson University</dc:creator>
  <dc:description/>
  <dc:language>en-US</dc:language>
  <cp:lastModifiedBy>Chris</cp:lastModifiedBy>
  <dcterms:modified xsi:type="dcterms:W3CDTF">2009-03-11T13:38:19Z</dcterms:modified>
  <cp:revision>33</cp:revision>
  <dc:subject/>
  <dc:title>No Slide Title</dc:title>
</cp:coreProperties>
</file>